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  <p:custShowLst>
    <p:custShow name="Orientering för nya studeranden" id="0">
      <p:sldLst>
        <p:sld r:id="rId3"/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436E4-E3D6-42DE-9B13-D77ED038EB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Bodoni Bd B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62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1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4A066-FE3A-43C4-9612-D6AA191CB8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Bodoni Bd B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62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62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1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1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E6AE9-0AF1-4C5C-978A-D93715C34C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Bodoni Bd B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62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62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62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1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1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1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91E9B-6449-485C-A52E-489410D1A6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Bodoni Bd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62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45285-8DEA-458A-AE9A-74E2564B3F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Bodoni B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62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365A8-0FAE-414B-89CD-0FEF3B314A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Bodoni B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62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62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22DC5-E1C0-458C-9CCE-7C60FD70E1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Bodoni B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1C743-B819-4906-BD24-D9D63D593E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3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7BF8E-1E20-4BF9-A3D9-0B8BA73100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Bodoni Bd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62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62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1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544CA-31AD-4284-B298-98C926EC71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Bodoni Bd B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62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62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1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F5C2A-8C69-48D9-837F-FD53C7E157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Bodoni Bd B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62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62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1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8A468-A80D-48F4-B210-88111FB111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69696"/>
                </a:solidFill>
                <a:latin typeface="Bodoni Bd BT"/>
              </a:rPr>
              <a:t>Click to edit the title text format</a:t>
            </a:r>
            <a:endParaRPr b="0" lang="en-US" sz="4400" spc="-1" strike="noStrike">
              <a:solidFill>
                <a:srgbClr val="969696"/>
              </a:solidFill>
              <a:latin typeface="Bodoni Bd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62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B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  <a:p>
            <a:pPr lvl="1" marL="743040" indent="-285840">
              <a:spcBef>
                <a:spcPts val="700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B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  <a:p>
            <a:pPr lvl="2" marL="1143000" indent="-228600">
              <a:spcBef>
                <a:spcPts val="700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B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  <a:p>
            <a:pPr lvl="3" marL="1600200" indent="-228600">
              <a:spcBef>
                <a:spcPts val="700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B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  <a:p>
            <a:pPr lvl="4" marL="2057400" indent="-228600">
              <a:spcBef>
                <a:spcPts val="700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B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B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B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969696"/>
                </a:solidFill>
                <a:latin typeface="Bodoni BdCn B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969696"/>
                </a:solidFill>
                <a:latin typeface="Bodoni BdCn BT"/>
              </a:rPr>
              <a:t>Institutionen för datavetenskap vid Helsingfors universit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84836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doni BdCn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7939-77BD-4085-9D0A-6BBA99619DDA}" type="slidenum">
              <a:rPr b="0" lang="en-US" sz="1400" spc="-1" strike="noStrike">
                <a:solidFill>
                  <a:srgbClr val="000000"/>
                </a:solidFill>
                <a:latin typeface="Bodoni BdCn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50360" y="0"/>
            <a:ext cx="593640" cy="5936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8389800" y="0"/>
            <a:ext cx="165240" cy="1652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152280" y="6066000"/>
            <a:ext cx="914400" cy="42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cs.helsinki.fi/" TargetMode="External"/><Relationship Id="rId3" Type="http://schemas.openxmlformats.org/officeDocument/2006/relationships/hyperlink" Target="http://www.cs.helsinki.fi/svenska/" TargetMode="External"/><Relationship Id="rId4" Type="http://schemas.openxmlformats.org/officeDocument/2006/relationships/hyperlink" Target="http://www.cs.helsinki.fi/svenska/" TargetMode="Externa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s.helsinki.fi/svenska/" TargetMode="External"/><Relationship Id="rId2" Type="http://schemas.openxmlformats.org/officeDocument/2006/relationships/hyperlink" Target="mailto:Anni.Rytkonen@cs.helsinki.fi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helsinki.fi/" TargetMode="External"/><Relationship Id="rId2" Type="http://schemas.openxmlformats.org/officeDocument/2006/relationships/hyperlink" Target="http://www.cs.helsinki.fi/svenska/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95320" y="1066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969696"/>
                </a:solidFill>
                <a:latin typeface="Bodoni Bd BT"/>
              </a:rPr>
              <a:t>Institutionen för datavetenskap vid Helsingfors universit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40400" y="2765520"/>
            <a:ext cx="4201920" cy="3152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33320" y="3305160"/>
            <a:ext cx="3086280" cy="25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3333cc"/>
                </a:solidFill>
                <a:latin typeface="Century Gothic"/>
              </a:rPr>
              <a:t>PB 6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3333cc"/>
                </a:solidFill>
                <a:latin typeface="Century Gothic"/>
              </a:rPr>
              <a:t>Gustaf Hällströms gata 2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3333cc"/>
                </a:solidFill>
                <a:latin typeface="Century Gothic"/>
              </a:rPr>
              <a:t>Helsingfors universit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 u="sng">
                <a:solidFill>
                  <a:srgbClr val="0033cc"/>
                </a:solidFill>
                <a:uFillTx/>
                <a:latin typeface="Century Gothic"/>
                <a:hlinkClick r:id="rId2"/>
              </a:rPr>
              <a:t>www.cs.helsinki.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 u="sng">
                <a:solidFill>
                  <a:srgbClr val="0033cc"/>
                </a:solidFill>
                <a:uFillTx/>
                <a:latin typeface="Century Gothic"/>
                <a:hlinkClick r:id="rId3"/>
              </a:rPr>
              <a:t>www.cs.helsinki.fi</a:t>
            </a:r>
            <a:r>
              <a:rPr b="0" lang="sv-FI" sz="1800" spc="-1" strike="noStrike" u="sng">
                <a:solidFill>
                  <a:srgbClr val="0033cc"/>
                </a:solidFill>
                <a:uFillTx/>
                <a:latin typeface="Century Gothic"/>
                <a:hlinkClick r:id="rId4"/>
              </a:rPr>
              <a:t>/svens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4400" spc="-1" strike="noStrike">
                <a:solidFill>
                  <a:srgbClr val="969696"/>
                </a:solidFill>
                <a:latin typeface="Bodoni Bd BT"/>
              </a:rPr>
              <a:t>På svenska</a:t>
            </a:r>
            <a:endParaRPr b="0" lang="en-US" sz="4400" spc="-1" strike="noStrike">
              <a:solidFill>
                <a:srgbClr val="969696"/>
              </a:solidFill>
              <a:latin typeface="Bodoni B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62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FI" sz="2400" spc="-1" strike="noStrike">
                <a:solidFill>
                  <a:srgbClr val="000000"/>
                </a:solidFill>
                <a:latin typeface="Bodoni BT"/>
              </a:rPr>
              <a:t>Hösten 2004</a:t>
            </a:r>
            <a:endParaRPr b="0" lang="en-US" sz="2400" spc="-1" strike="noStrike">
              <a:solidFill>
                <a:srgbClr val="000000"/>
              </a:solidFill>
              <a:latin typeface="Bodoni BT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FI" sz="2000" spc="-1" strike="noStrike">
                <a:solidFill>
                  <a:srgbClr val="000000"/>
                </a:solidFill>
                <a:latin typeface="Bodoni BT"/>
              </a:rPr>
              <a:t>Datorn som arbetsredskap</a:t>
            </a: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, 3-9/9 kl. 12-15, samt övningar, övningsarbete och tentamen. Kursen föreläses på finska, men föreläsaren Anni Rytkönen är tvåspråkig. 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FI" sz="2000" spc="-1" strike="noStrike">
                <a:solidFill>
                  <a:srgbClr val="000000"/>
                </a:solidFill>
                <a:latin typeface="Bodoni BT"/>
              </a:rPr>
              <a:t>Lärartutorering</a:t>
            </a: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, 1 sv, fortsätter på svenska, lärartutor Greger Lindén. För 2:a och 3:e årets datavet. studenter.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FI" sz="2400" spc="-1" strike="noStrike">
                <a:solidFill>
                  <a:srgbClr val="000000"/>
                </a:solidFill>
                <a:latin typeface="Bodoni BT"/>
              </a:rPr>
              <a:t>Våren 2005</a:t>
            </a:r>
            <a:endParaRPr b="0" lang="en-US" sz="2400" spc="-1" strike="noStrike">
              <a:solidFill>
                <a:srgbClr val="000000"/>
              </a:solidFill>
              <a:latin typeface="Bodoni BT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FI" sz="2000" spc="-1" strike="noStrike">
                <a:solidFill>
                  <a:srgbClr val="000000"/>
                </a:solidFill>
                <a:latin typeface="Bodoni BT"/>
              </a:rPr>
              <a:t>Att skriva vetenskaplig text</a:t>
            </a: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, 4 sv, kursen på finska men handledning på svenska. Anmälning i november 2004. För tillräckligt långt hunna datavet. studenter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400" spc="-1" strike="noStrike">
                <a:solidFill>
                  <a:srgbClr val="000000"/>
                </a:solidFill>
                <a:latin typeface="Bodoni BT"/>
              </a:rPr>
              <a:t>Se </a:t>
            </a:r>
            <a:r>
              <a:rPr b="0" lang="sv-FI" sz="2400" spc="-1" strike="noStrike" u="sng">
                <a:solidFill>
                  <a:srgbClr val="0033cc"/>
                </a:solidFill>
                <a:uFillTx/>
                <a:latin typeface="Bodoni BT"/>
                <a:hlinkClick r:id="rId1"/>
              </a:rPr>
              <a:t>www.cs.helsinki.fi/svenska/</a:t>
            </a:r>
            <a:endParaRPr b="0" lang="en-US" sz="2400" spc="-1" strike="noStrike">
              <a:solidFill>
                <a:srgbClr val="000000"/>
              </a:solidFill>
              <a:latin typeface="Bodoni BT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Studiehandledning: Anni Rytkönen, </a:t>
            </a:r>
            <a:r>
              <a:rPr b="0" lang="sv-FI" sz="2000" spc="-1" strike="noStrike" u="sng">
                <a:solidFill>
                  <a:srgbClr val="0033cc"/>
                </a:solidFill>
                <a:uFillTx/>
                <a:latin typeface="Bodoni BT"/>
                <a:hlinkClick r:id="rId2"/>
              </a:rPr>
              <a:t>Anni.Rytkonen@cs.helsinki.fi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4400" spc="-1" strike="noStrike">
                <a:solidFill>
                  <a:srgbClr val="969696"/>
                </a:solidFill>
                <a:latin typeface="Bodoni Bd BT"/>
              </a:rPr>
              <a:t>Viktiga vinkar</a:t>
            </a:r>
            <a:endParaRPr b="0" lang="en-US" sz="4400" spc="-1" strike="noStrike">
              <a:solidFill>
                <a:srgbClr val="969696"/>
              </a:solidFill>
              <a:latin typeface="Bodoni Bd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62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Läs studiehandboken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  <a:p>
            <a:pPr marL="343080" indent="-343080"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Surfa på 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  <a:p>
            <a:pPr lvl="1" marL="743040" indent="-285840">
              <a:spcBef>
                <a:spcPts val="451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 u="sng">
                <a:solidFill>
                  <a:srgbClr val="0033cc"/>
                </a:solidFill>
                <a:uFillTx/>
                <a:latin typeface="Bodoni BT"/>
                <a:hlinkClick r:id="rId1"/>
              </a:rPr>
              <a:t>www.cs.helsinki.fi</a:t>
            </a:r>
            <a:endParaRPr b="0" lang="en-US" sz="1800" spc="-1" strike="noStrike">
              <a:solidFill>
                <a:srgbClr val="000000"/>
              </a:solidFill>
              <a:latin typeface="Bodoni BT"/>
            </a:endParaRPr>
          </a:p>
          <a:p>
            <a:pPr lvl="1" marL="743040" indent="-285840">
              <a:spcBef>
                <a:spcPts val="451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 u="sng">
                <a:solidFill>
                  <a:srgbClr val="0033cc"/>
                </a:solidFill>
                <a:uFillTx/>
                <a:latin typeface="Bodoni BT"/>
                <a:hlinkClick r:id="rId2"/>
              </a:rPr>
              <a:t>www.cs.helsinki.fi/svenska/</a:t>
            </a:r>
            <a:endParaRPr b="0" lang="en-US" sz="1800" spc="-1" strike="noStrike">
              <a:solidFill>
                <a:srgbClr val="000000"/>
              </a:solidFill>
              <a:latin typeface="Bodoni BT"/>
            </a:endParaRPr>
          </a:p>
          <a:p>
            <a:pPr marL="343080" indent="-343080"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Lär dig eposta och surfa så fort som möjligt (om det nu är obekant för någon)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  <a:p>
            <a:pPr marL="343080" indent="-343080"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Obs! Nästan allting sker på nätet: anmälningar, kursinformation &amp; material, övningsuppgifter, ja t.o.m. tenter ibland!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049720" y="1962000"/>
            <a:ext cx="3005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4400" spc="-1" strike="noStrike">
                <a:solidFill>
                  <a:srgbClr val="969696"/>
                </a:solidFill>
                <a:latin typeface="Bodoni Bd BT"/>
              </a:rPr>
              <a:t>Datavetenskap</a:t>
            </a:r>
            <a:endParaRPr b="0" lang="en-US" sz="4400" spc="-1" strike="noStrike">
              <a:solidFill>
                <a:srgbClr val="969696"/>
              </a:solidFill>
              <a:latin typeface="Bodoni Bd B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62000"/>
            <a:ext cx="473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Datavetenskapen försöker svara på frågan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3333cc"/>
                </a:solidFill>
                <a:latin typeface="Bodoni BT"/>
              </a:rPr>
              <a:t>	</a:t>
            </a:r>
            <a:r>
              <a:rPr b="0" lang="sv-FI" sz="1800" spc="-1" strike="noStrike">
                <a:solidFill>
                  <a:srgbClr val="3333cc"/>
                </a:solidFill>
                <a:latin typeface="Bodoni BT"/>
              </a:rPr>
              <a:t>	</a:t>
            </a:r>
            <a:r>
              <a:rPr b="0" lang="sv-FI" sz="1800" spc="-1" strike="noStrike">
                <a:solidFill>
                  <a:srgbClr val="3333cc"/>
                </a:solidFill>
                <a:latin typeface="Bodoni BT"/>
              </a:rPr>
              <a:t>Vad automatiseras effektivt?</a:t>
            </a:r>
            <a:endParaRPr b="0" lang="en-US" sz="1800" spc="-1" strike="noStrike">
              <a:solidFill>
                <a:srgbClr val="000000"/>
              </a:solidFill>
              <a:latin typeface="Bodoni BT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BT"/>
            </a:endParaRPr>
          </a:p>
          <a:p>
            <a:pPr marL="322200" indent="-322200"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Vilka problem kan lösas på automatiskt väg (dvs. med en dator)?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  <a:p>
            <a:pPr marL="322200" indent="-322200"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Hur löser man dem så effektivt som möjligt?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  <a:p>
            <a:pPr marL="322200" indent="-322200"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I praktiken ingår i datavetenskap allt möjligt från abstrakt algoritmanalys och formella språk till programmeringsspråk, mjukvara (och hårdvara)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578560" y="1873080"/>
            <a:ext cx="2000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4000" spc="-1" strike="noStrike">
                <a:solidFill>
                  <a:srgbClr val="969696"/>
                </a:solidFill>
                <a:latin typeface="Bodoni Bd BT"/>
              </a:rPr>
              <a:t>Aha, det är frågan om att bygga datorer ...</a:t>
            </a:r>
            <a:endParaRPr b="0" lang="en-US" sz="4000" spc="-1" strike="noStrike">
              <a:solidFill>
                <a:srgbClr val="969696"/>
              </a:solidFill>
              <a:latin typeface="Bodoni Bd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62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Nej!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  <a:p>
            <a:pPr marL="322200" indent="-322200"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Edsger Dijkstra: 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3333cc"/>
                </a:solidFill>
                <a:latin typeface="Bodoni BT"/>
              </a:rPr>
              <a:t>	</a:t>
            </a:r>
            <a:r>
              <a:rPr b="0" lang="sv-FI" sz="1800" spc="-1" strike="noStrike">
                <a:solidFill>
                  <a:srgbClr val="3333cc"/>
                </a:solidFill>
                <a:latin typeface="Bodoni BT"/>
              </a:rPr>
              <a:t>”</a:t>
            </a:r>
            <a:r>
              <a:rPr b="0" lang="sv-FI" sz="1800" spc="-1" strike="noStrike">
                <a:solidFill>
                  <a:srgbClr val="3333cc"/>
                </a:solidFill>
                <a:latin typeface="Bodoni BT"/>
              </a:rPr>
              <a:t>Computer science is no more about computers than astronomy is about telescopes”</a:t>
            </a:r>
            <a:endParaRPr b="0" lang="en-US" sz="1800" spc="-1" strike="noStrike">
              <a:solidFill>
                <a:srgbClr val="000000"/>
              </a:solidFill>
              <a:latin typeface="Bodoni BT"/>
            </a:endParaRPr>
          </a:p>
          <a:p>
            <a:pPr marL="322200" indent="-322200"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En datavetare kan definiera och analysera problem, planera lösningar, analysera hur effektiva i lösningsalternativen är, programmera in lösningen i en dator och lösa problemet!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805360" y="1962000"/>
            <a:ext cx="1495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4000" spc="-1" strike="noStrike">
                <a:solidFill>
                  <a:srgbClr val="969696"/>
                </a:solidFill>
                <a:latin typeface="Bodoni Bd BT"/>
              </a:rPr>
              <a:t>Aha, så man lär sig använda Windows ...</a:t>
            </a:r>
            <a:endParaRPr b="0" lang="en-US" sz="4000" spc="-1" strike="noStrike">
              <a:solidFill>
                <a:srgbClr val="969696"/>
              </a:solidFill>
              <a:latin typeface="Bodoni Bd B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49400"/>
            <a:ext cx="547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400" spc="-1" strike="noStrike">
                <a:solidFill>
                  <a:srgbClr val="000000"/>
                </a:solidFill>
                <a:latin typeface="Bodoni BT"/>
              </a:rPr>
              <a:t>Öhh! Det kan stämma men ...</a:t>
            </a:r>
            <a:endParaRPr b="0" lang="en-US" sz="2400" spc="-1" strike="noStrike">
              <a:solidFill>
                <a:srgbClr val="000000"/>
              </a:solidFill>
              <a:latin typeface="Bodoni BT"/>
            </a:endParaRPr>
          </a:p>
          <a:p>
            <a:pPr marL="322200" indent="-322200">
              <a:spcBef>
                <a:spcPts val="601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400" spc="-1" strike="noStrike">
                <a:solidFill>
                  <a:srgbClr val="000000"/>
                </a:solidFill>
                <a:latin typeface="Bodoni BT"/>
              </a:rPr>
              <a:t>Det är frågan om mycket mera än grundkunskaper i datoranvändning.</a:t>
            </a:r>
            <a:endParaRPr b="0" lang="en-US" sz="2400" spc="-1" strike="noStrike">
              <a:solidFill>
                <a:srgbClr val="000000"/>
              </a:solidFill>
              <a:latin typeface="Bodoni BT"/>
            </a:endParaRPr>
          </a:p>
          <a:p>
            <a:pPr marL="322200" indent="-322200">
              <a:spcBef>
                <a:spcPts val="601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400" spc="-1" strike="noStrike">
                <a:solidFill>
                  <a:srgbClr val="000000"/>
                </a:solidFill>
                <a:latin typeface="Bodoni BT"/>
              </a:rPr>
              <a:t>Du lär dig inte bara använda program, du lär dig bygga och programmera system själv!</a:t>
            </a:r>
            <a:endParaRPr b="0" lang="en-US" sz="2400" spc="-1" strike="noStrike">
              <a:solidFill>
                <a:srgbClr val="000000"/>
              </a:solidFill>
              <a:latin typeface="Bodoni BT"/>
            </a:endParaRPr>
          </a:p>
          <a:p>
            <a:pPr marL="322200" indent="-322200">
              <a:spcBef>
                <a:spcPts val="601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400" spc="-1" strike="noStrike">
                <a:solidFill>
                  <a:srgbClr val="000000"/>
                </a:solidFill>
                <a:latin typeface="Bodoni BT"/>
              </a:rPr>
              <a:t>(Vink: Det har hänt förut!) </a:t>
            </a:r>
            <a:endParaRPr b="0" lang="en-US" sz="2400" spc="-1" strike="noStrike">
              <a:solidFill>
                <a:srgbClr val="000000"/>
              </a:solidFill>
              <a:latin typeface="Bodoni BT"/>
            </a:endParaRPr>
          </a:p>
          <a:p>
            <a:pPr marL="322200" indent="-322200">
              <a:spcBef>
                <a:spcPts val="601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400" spc="-1" strike="noStrike">
                <a:solidFill>
                  <a:srgbClr val="000000"/>
                </a:solidFill>
                <a:latin typeface="Bodoni BT"/>
              </a:rPr>
              <a:t>Att lära sig använda en dator är viktigt! Datavetarna vet dessutom vad som rör sig i en dators huvud.</a:t>
            </a:r>
            <a:endParaRPr b="0" lang="en-US" sz="2400" spc="-1" strike="noStrike">
              <a:solidFill>
                <a:srgbClr val="000000"/>
              </a:solidFill>
              <a:latin typeface="Bodoni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4000" spc="-1" strike="noStrike">
                <a:solidFill>
                  <a:srgbClr val="969696"/>
                </a:solidFill>
                <a:latin typeface="Bodoni Bd BT"/>
              </a:rPr>
              <a:t>Aha, så man kan bli en ny Bill Gates</a:t>
            </a:r>
            <a:endParaRPr b="0" lang="en-US" sz="4000" spc="-1" strike="noStrike">
              <a:solidFill>
                <a:srgbClr val="969696"/>
              </a:solidFill>
              <a:latin typeface="Bodoni Bd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620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Hellre en ny Linus Torvalds, eller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000000"/>
                </a:solidFill>
                <a:latin typeface="Bodoni BT"/>
              </a:rPr>
              <a:t>Forskare</a:t>
            </a:r>
            <a:endParaRPr b="0" lang="en-US" sz="1800" spc="-1" strike="noStrike">
              <a:solidFill>
                <a:srgbClr val="000000"/>
              </a:solidFill>
              <a:latin typeface="Bodoni BT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000000"/>
                </a:solidFill>
                <a:latin typeface="Bodoni BT"/>
              </a:rPr>
              <a:t>Lärare</a:t>
            </a:r>
            <a:endParaRPr b="0" lang="en-US" sz="1800" spc="-1" strike="noStrike">
              <a:solidFill>
                <a:srgbClr val="000000"/>
              </a:solidFill>
              <a:latin typeface="Bodoni BT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000000"/>
                </a:solidFill>
                <a:latin typeface="Bodoni BT"/>
              </a:rPr>
              <a:t>IT-expert på konsultföretag</a:t>
            </a:r>
            <a:endParaRPr b="0" lang="en-US" sz="1800" spc="-1" strike="noStrike">
              <a:solidFill>
                <a:srgbClr val="000000"/>
              </a:solidFill>
              <a:latin typeface="Bodoni BT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000000"/>
                </a:solidFill>
                <a:latin typeface="Bodoni BT"/>
              </a:rPr>
              <a:t>Datachef på företag</a:t>
            </a:r>
            <a:endParaRPr b="0" lang="en-US" sz="1800" spc="-1" strike="noStrike">
              <a:solidFill>
                <a:srgbClr val="000000"/>
              </a:solidFill>
              <a:latin typeface="Bodoni BT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Richard Feynman: 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3333cc"/>
                </a:solidFill>
                <a:latin typeface="Bodoni BT"/>
              </a:rPr>
              <a:t>	</a:t>
            </a:r>
            <a:r>
              <a:rPr b="0" lang="sv-FI" sz="1800" spc="-1" strike="noStrike">
                <a:solidFill>
                  <a:srgbClr val="3333cc"/>
                </a:solidFill>
                <a:latin typeface="Bodoni BT"/>
              </a:rPr>
              <a:t>”</a:t>
            </a:r>
            <a:r>
              <a:rPr b="0" lang="sv-FI" sz="1800" spc="-1" strike="noStrike">
                <a:solidFill>
                  <a:srgbClr val="3333cc"/>
                </a:solidFill>
                <a:latin typeface="Bodoni BT"/>
              </a:rPr>
              <a:t>Computer science is not as old as physics; it lags by a couple of hundred years. </a:t>
            </a:r>
            <a:endParaRPr b="0" lang="en-US" sz="1800" spc="-1" strike="noStrike">
              <a:solidFill>
                <a:srgbClr val="000000"/>
              </a:solidFill>
              <a:latin typeface="Bodoni BT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3333cc"/>
                </a:solidFill>
                <a:latin typeface="Bodoni BT"/>
              </a:rPr>
              <a:t>	</a:t>
            </a:r>
            <a:r>
              <a:rPr b="0" lang="sv-FI" sz="1800" spc="-1" strike="noStrike">
                <a:solidFill>
                  <a:srgbClr val="3333cc"/>
                </a:solidFill>
                <a:latin typeface="Bodoni BT"/>
              </a:rPr>
              <a:t>However, this does not mean that there is significantly less on the computer scientist’s plate than on the physicist’s: younger it may be, but it has had a far more intensive upbringing!”</a:t>
            </a:r>
            <a:endParaRPr b="0" lang="en-US" sz="1800" spc="-1" strike="noStrike">
              <a:solidFill>
                <a:srgbClr val="000000"/>
              </a:solidFill>
              <a:latin typeface="Bodoni BT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310440" y="1949400"/>
            <a:ext cx="1780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969696"/>
                </a:solidFill>
                <a:latin typeface="Bodoni Bd BT"/>
              </a:rPr>
              <a:t>Linux</a:t>
            </a:r>
            <a:endParaRPr b="0" lang="en-US" sz="4400" spc="-1" strike="noStrike">
              <a:solidFill>
                <a:srgbClr val="969696"/>
              </a:solidFill>
              <a:latin typeface="Bodoni Bd B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936800"/>
            <a:ext cx="5753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Bodoni Bk BT"/>
                <a:ea typeface="Times New Roman"/>
              </a:rPr>
              <a:t>Linus Torvalds, som utvecklade Linux-operativsystemet, studerade och arbetade på institutionen 1988-1997</a:t>
            </a:r>
            <a:endParaRPr b="0" lang="en-US" sz="2400" spc="-1" strike="noStrike">
              <a:solidFill>
                <a:srgbClr val="000000"/>
              </a:solidFill>
              <a:latin typeface="Bodoni B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Bodoni Bk BT"/>
                <a:ea typeface="Times New Roman"/>
              </a:rPr>
              <a:t>Utvecklandet av Linux började i slutet av 1980-talet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Bodoni Bk BT"/>
                <a:ea typeface="Times New Roman"/>
              </a:rPr>
              <a:t>Linus blev hedersdoktor vid universitetet 2000</a:t>
            </a:r>
            <a:endParaRPr b="0" lang="en-US" sz="2400" spc="-1" strike="noStrike">
              <a:solidFill>
                <a:srgbClr val="000000"/>
              </a:solidFill>
              <a:latin typeface="Bodoni B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Bodoni Bk BT"/>
                <a:ea typeface="Times New Roman"/>
              </a:rPr>
              <a:t>Institutionen har använt Linux i över tio år</a:t>
            </a:r>
            <a:endParaRPr b="0" lang="en-US" sz="2400" spc="-1" strike="noStrike">
              <a:solidFill>
                <a:srgbClr val="000000"/>
              </a:solidFill>
              <a:latin typeface="Bodoni BT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900840" y="2048040"/>
            <a:ext cx="2243160" cy="1503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913440" y="4819680"/>
            <a:ext cx="2230560" cy="342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4400" spc="-1" strike="noStrike">
                <a:solidFill>
                  <a:srgbClr val="969696"/>
                </a:solidFill>
                <a:latin typeface="Bodoni Bd BT"/>
              </a:rPr>
              <a:t>Institutionen för datavetenskap</a:t>
            </a:r>
            <a:endParaRPr b="0" lang="en-US" sz="4400" spc="-1" strike="noStrike">
              <a:solidFill>
                <a:srgbClr val="969696"/>
              </a:solidFill>
              <a:latin typeface="Bodoni Bd B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62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400" spc="-1" strike="noStrike">
                <a:solidFill>
                  <a:srgbClr val="000000"/>
                </a:solidFill>
                <a:latin typeface="Bodoni BT"/>
              </a:rPr>
              <a:t>Stort urval kurser och inriktningar</a:t>
            </a:r>
            <a:endParaRPr b="0" lang="en-US" sz="2400" spc="-1" strike="noStrike">
              <a:solidFill>
                <a:srgbClr val="000000"/>
              </a:solidFill>
              <a:latin typeface="Bodoni BT"/>
            </a:endParaRPr>
          </a:p>
          <a:p>
            <a:pPr lvl="1" marL="690840" indent="-265680"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Datavetenskap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  <a:p>
            <a:pPr lvl="2" marL="1062720" indent="-212400">
              <a:spcBef>
                <a:spcPts val="451"/>
              </a:spcBef>
              <a:buClr>
                <a:srgbClr val="ff871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000000"/>
                </a:solidFill>
                <a:latin typeface="Bodoni BT"/>
              </a:rPr>
              <a:t>Algoritmer – lösningsmodeller och effektivitet</a:t>
            </a:r>
            <a:endParaRPr b="0" lang="en-US" sz="1800" spc="-1" strike="noStrike">
              <a:solidFill>
                <a:srgbClr val="000000"/>
              </a:solidFill>
              <a:latin typeface="Bodoni BT"/>
            </a:endParaRPr>
          </a:p>
          <a:p>
            <a:pPr lvl="2" marL="1062720" indent="-212400">
              <a:spcBef>
                <a:spcPts val="451"/>
              </a:spcBef>
              <a:buClr>
                <a:srgbClr val="ff871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000000"/>
                </a:solidFill>
                <a:latin typeface="Bodoni BT"/>
              </a:rPr>
              <a:t>Intelligenta system – artificiell intelligens</a:t>
            </a:r>
            <a:endParaRPr b="0" lang="en-US" sz="1800" spc="-1" strike="noStrike">
              <a:solidFill>
                <a:srgbClr val="000000"/>
              </a:solidFill>
              <a:latin typeface="Bodoni BT"/>
            </a:endParaRPr>
          </a:p>
          <a:p>
            <a:pPr lvl="2" marL="1062720" indent="-212400">
              <a:spcBef>
                <a:spcPts val="451"/>
              </a:spcBef>
              <a:buClr>
                <a:srgbClr val="ff871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000000"/>
                </a:solidFill>
                <a:latin typeface="Bodoni BT"/>
              </a:rPr>
              <a:t>Programvaruproduktion – stora program och helheter</a:t>
            </a:r>
            <a:endParaRPr b="0" lang="en-US" sz="1800" spc="-1" strike="noStrike">
              <a:solidFill>
                <a:srgbClr val="000000"/>
              </a:solidFill>
              <a:latin typeface="Bodoni BT"/>
            </a:endParaRPr>
          </a:p>
          <a:p>
            <a:pPr lvl="2" marL="1062720" indent="-212400">
              <a:spcBef>
                <a:spcPts val="451"/>
              </a:spcBef>
              <a:buClr>
                <a:srgbClr val="ff871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000000"/>
                </a:solidFill>
                <a:latin typeface="Bodoni BT"/>
              </a:rPr>
              <a:t>Distributiva system och datakommunikation – trådlöst och mobilt</a:t>
            </a:r>
            <a:endParaRPr b="0" lang="en-US" sz="1800" spc="-1" strike="noStrike">
              <a:solidFill>
                <a:srgbClr val="000000"/>
              </a:solidFill>
              <a:latin typeface="Bodoni BT"/>
            </a:endParaRPr>
          </a:p>
          <a:p>
            <a:pPr lvl="2" marL="1062720" indent="-212400">
              <a:spcBef>
                <a:spcPts val="451"/>
              </a:spcBef>
              <a:buClr>
                <a:srgbClr val="ff871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000000"/>
                </a:solidFill>
                <a:latin typeface="Bodoni BT"/>
              </a:rPr>
              <a:t>Informationssystem och språkteknologi – databaser och databrytning</a:t>
            </a:r>
            <a:endParaRPr b="0" lang="en-US" sz="1800" spc="-1" strike="noStrike">
              <a:solidFill>
                <a:srgbClr val="000000"/>
              </a:solidFill>
              <a:latin typeface="Bodoni BT"/>
            </a:endParaRPr>
          </a:p>
          <a:p>
            <a:pPr lvl="1" marL="690840" indent="-265680"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Tillämpad datavetenskap – anything you like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  <a:p>
            <a:pPr lvl="1" marL="690840" indent="-265680"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Lärare i datateknik – ni vet ...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  <a:p>
            <a:pPr lvl="1" marL="690840" indent="-265680"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Datormatematiker – expert på båda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  <a:p>
            <a:pPr lvl="1" marL="690840" indent="-265680"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Bioinformatik och beräkningsbiologi – genforskning mm.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3828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800" spc="-1" strike="noStrike">
                <a:solidFill>
                  <a:srgbClr val="969696"/>
                </a:solidFill>
                <a:latin typeface="Bodoni Bd BT"/>
              </a:rPr>
              <a:t>Inriktningsalternativ med minimikrav</a:t>
            </a:r>
            <a:endParaRPr b="0" lang="en-US" sz="2800" spc="-1" strike="noStrike">
              <a:solidFill>
                <a:srgbClr val="969696"/>
              </a:solidFill>
              <a:latin typeface="Bodoni Bd BT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36560" y="1568520"/>
          <a:ext cx="7772400" cy="4120920"/>
        </p:xfrm>
        <a:graphic>
          <a:graphicData uri="http://schemas.openxmlformats.org/drawingml/2006/table">
            <a:tbl>
              <a:tblPr/>
              <a:tblGrid>
                <a:gridCol w="1270080"/>
                <a:gridCol w="1320840"/>
                <a:gridCol w="1295280"/>
                <a:gridCol w="1295280"/>
                <a:gridCol w="1295640"/>
                <a:gridCol w="129528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Äm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Datavetensk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Tillämpad datavetensk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Lärare i datatekn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Dator-matematik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Bioinformatikberäknings-biolog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Dataveten-sk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95 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80 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75 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76 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95 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Matematik (el. System-vetenskap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15 (el. 20) 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60 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Pedagog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35 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Övriga biämn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30 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sammanl. 45 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60 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minst 2 ämn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35 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ofta matemat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15 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45 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minst 2 ämn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Övriga stud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6 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6 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6 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6 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6 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Filosofie magis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160 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160 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160 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160 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160 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4400" spc="-1" strike="noStrike">
                <a:solidFill>
                  <a:srgbClr val="969696"/>
                </a:solidFill>
                <a:latin typeface="Bodoni Bd BT"/>
              </a:rPr>
              <a:t>Börja med följande kurser</a:t>
            </a:r>
            <a:endParaRPr b="0" lang="en-US" sz="4400" spc="-1" strike="noStrike">
              <a:solidFill>
                <a:srgbClr val="969696"/>
              </a:solidFill>
              <a:latin typeface="Bodoni Bd B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62000"/>
            <a:ext cx="430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Datorns som arbetsredskap, 2 sv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  <a:p>
            <a:pPr marL="339480" indent="-339480"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Presentation av datavetenskap, 1 sv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  <a:p>
            <a:pPr marL="339480" indent="-339480"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Introduktion till programmering, 2 sv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  <a:p>
            <a:pPr marL="339480" indent="-339480"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Java-programmering, 2 sv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  <a:p>
            <a:pPr marL="339480" indent="-339480"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Introduktion till applikationsplanering, 2 sv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  <a:p>
            <a:pPr marL="339480" indent="-339480"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Se sida 85 i studiehandboken (gula boken)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42040" y="1962000"/>
            <a:ext cx="2712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Dept. of Computer Science</dc:creator>
  <dc:description/>
  <dc:language>en-US</dc:language>
  <cp:lastModifiedBy>Greger Lindén</cp:lastModifiedBy>
  <cp:lastPrinted>1998-01-02T17:24:55Z</cp:lastPrinted>
  <dcterms:modified xsi:type="dcterms:W3CDTF">2004-08-30T12:58:34Z</dcterms:modified>
  <cp:revision>210</cp:revision>
  <dc:subject/>
  <dc:title>No Slide Title</dc:title>
</cp:coreProperties>
</file>